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8E6-AA0E-4622-9378-8AFD4699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045-8B8C-4628-9951-04CEDE0E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B31-DCBA-4BD5-A70D-C124AC68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5B1-AE5C-4437-BA8C-5EEDCF8C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639-E2A5-4264-BA8A-C249050E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534-DED2-4B6E-90C9-7F6D2208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C1C-56BB-4E0D-80F9-BC4592D5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309-9292-44A8-9ADF-B751BAB1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367-3367-4C42-A31D-A2DB8897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BF4-AF1A-4685-A207-0BF4CCE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34D-F925-4582-8195-B0325C09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8BF-C447-48A5-B89F-35E71653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2378-30CD-4488-8FE1-9A2C4DCA30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46520" cy="2667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69228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Miss Thomas yn mynd ar ei gwyliau i wlad arbennig o’r enw Pentyr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7385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n mynd mae angen newid ei arian (sydd mewn £) i arian gwlad Pentyrch, sef Bets (B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797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Miss Thomas eisiau TRAWSNEWID (convert) Bets (B) i bunnoedd (£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71640" y="1268280"/>
          <a:ext cx="6912000" cy="1728720"/>
        </p:xfrm>
        <a:graphic>
          <a:graphicData uri="http://schemas.openxmlformats.org/drawingml/2006/table">
            <a:tbl>
              <a:tblPr/>
              <a:tblGrid>
                <a:gridCol w="787680"/>
                <a:gridCol w="1487520"/>
                <a:gridCol w="1487520"/>
                <a:gridCol w="1487160"/>
                <a:gridCol w="1662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£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539640" y="260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llwn cwblhau tabl yn gyntaf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28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c yna tynnu graff o’r wyboda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005360"/>
            <a:ext cx="79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fiwch  - wrth tynnu gr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sil a phrenmes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i a thei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ddfa synhwyrol a chy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5381" t="1227" r="0" b="1841"/>
          <a:stretch/>
        </p:blipFill>
        <p:spPr>
          <a:xfrm>
            <a:off x="1116000" y="0"/>
            <a:ext cx="712800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84360" y="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ff trawsnewid Bets (B) yn 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64008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s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634320" y="28029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nnoedd (£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59500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32200" y="4044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67640" y="18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5381" t="1227" r="0" b="1841"/>
          <a:stretch/>
        </p:blipFill>
        <p:spPr>
          <a:xfrm>
            <a:off x="1116000" y="0"/>
            <a:ext cx="7128000" cy="648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84360" y="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ff trawsnewid Bets (B) yn 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64008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s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-634320" y="28029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nnoedd (£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59500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32200" y="4044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18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e Miss Thomas yn prynu diod sy’n 1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wl punt ydy 12B? ....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1413000"/>
            <a:ext cx="17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2124000" y="2276640"/>
            <a:ext cx="525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Gr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4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£1.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78136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e gan Miss Thomas 22B a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ôl ar ddiwedd y gwylia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wl punt ydy 22B? ....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2000" y="39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£2.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501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wl B yw £1.75? 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49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14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7:16:50Z</dcterms:created>
  <dc:creator>Betsan Thomas</dc:creator>
  <dc:description/>
  <dc:language>en-US</dc:language>
  <cp:lastModifiedBy>Betsan Wyn Thomas</cp:lastModifiedBy>
  <dcterms:modified xsi:type="dcterms:W3CDTF">2008-01-13T17:25:25Z</dcterms:modified>
  <cp:revision>3</cp:revision>
  <dc:subject/>
  <dc:title>Slide 1</dc:title>
</cp:coreProperties>
</file>